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34F-E372-4730-8D0F-8DA0A204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725-5706-4212-A4CE-70900BCB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BC6-08AA-4D29-BD26-7777E6EA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1A2-D70B-4472-8CEB-E69B195E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EE85-1CE1-4356-BBA5-442838F0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2798-E1C2-4046-8C52-77E2ABB5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4AE4-BAC4-415E-9FCE-A22B603B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9E0C-5EC1-45A2-A629-5B3E208B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ABAD-1139-414D-BEFE-DE0E1D91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F9EC-0FD0-4129-9EC9-B32EABBE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0407-031D-4B19-8833-791C36D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AC0-4220-46B7-9FE6-AC66C0A4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502A-BE69-47B8-BA21-B5B6A078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DCCF-F03A-44AD-A5CA-A5861F97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CAE8-A943-432F-9C02-759871B2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86C0-A8C8-4849-A0D3-3DE92A1B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FA6F-E9E8-430A-99BF-E672598B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B12-CD91-4936-A45A-BEBF27D2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7DE-E0BA-4FCE-A78B-1D2722E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695-DC25-48DF-8944-F33ABB9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A1B-7930-4C5E-874E-8DC91B12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0F2-9971-4AEE-977B-35389653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BA3-2DA0-4D1D-BE7B-3C10798D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401-0B53-4C49-8FFE-E411B8C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D5C4-79CD-4272-B1C8-5E1A50991D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2FA6-FBB9-4DD1-9819-3C3F0A80CE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Three-Fifths Compromis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greement that three-fifths of a state's slave population would be counted for representation and tax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2819520"/>
            <a:ext cx="3733920" cy="2819160"/>
          </a:xfrm>
          <a:prstGeom prst="wedgeEllipseCallout">
            <a:avLst>
              <a:gd name="adj1" fmla="val 50722"/>
              <a:gd name="adj2" fmla="val 5500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KEY WORD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~represent:  when a Senator takes ideas that people in his state tell him and he goes and tells the P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73000">
            <a:off x="4946400" y="3033720"/>
            <a:ext cx="3962160" cy="2743200"/>
          </a:xfrm>
          <a:prstGeom prst="cloudCallout">
            <a:avLst>
              <a:gd name="adj1" fmla="val -22337"/>
              <a:gd name="adj2" fmla="val 5193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North does not think it is right that the South has more slaves and that creates more representation, so the South should only be able to count 3/5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of their slaves for re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00600" y="5826240"/>
            <a:ext cx="1371600" cy="1031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573000">
            <a:off x="4876560" y="3048120"/>
            <a:ext cx="3962160" cy="2743200"/>
          </a:xfrm>
          <a:prstGeom prst="cloudCallout">
            <a:avLst>
              <a:gd name="adj1" fmla="val -23152"/>
              <a:gd name="adj2" fmla="val 504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your own word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Quorum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inimum number of members that must be present for official business to take pl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581280"/>
            <a:ext cx="3429000" cy="2210040"/>
          </a:xfrm>
          <a:prstGeom prst="wedgeEllipseCallout">
            <a:avLst>
              <a:gd name="adj1" fmla="val 51666"/>
              <a:gd name="adj2" fmla="val 493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Key Word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Minimum:  the least you can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opposite of maximu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429000"/>
            <a:ext cx="2971800" cy="3429000"/>
          </a:xfrm>
          <a:prstGeom prst="cloudCallout">
            <a:avLst>
              <a:gd name="adj1" fmla="val -45032"/>
              <a:gd name="adj2" fmla="val 237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he least amount of people that have to be there to have official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91120" y="5826240"/>
            <a:ext cx="1371600" cy="1031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3429000"/>
            <a:ext cx="2971800" cy="3429000"/>
          </a:xfrm>
          <a:prstGeom prst="cloudCallout">
            <a:avLst>
              <a:gd name="adj1" fmla="val -51976"/>
              <a:gd name="adj2" fmla="val 203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ajority Rule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ystem in which more than one half of a group holds the power to make decisions binding the entire grou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rot="19777200">
            <a:off x="1142640" y="4038480"/>
            <a:ext cx="3048120" cy="1981440"/>
          </a:xfrm>
          <a:prstGeom prst="wedgeEllipseCallout">
            <a:avLst>
              <a:gd name="adj1" fmla="val 35384"/>
              <a:gd name="adj2" fmla="val 9011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Key Word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inding:  uniting or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e than half: at least 1 more than hal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769800">
            <a:off x="4433400" y="3533760"/>
            <a:ext cx="4454640" cy="2560680"/>
          </a:xfrm>
          <a:prstGeom prst="cloudCallout">
            <a:avLst>
              <a:gd name="adj1" fmla="val -1972"/>
              <a:gd name="adj2" fmla="val 3163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If like in a classroom and you vote on homework for the night or not~ and at least more than half of the people vote for no homework there will be no homework because it was more than half that wanted it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5826240"/>
            <a:ext cx="1371600" cy="103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769800">
            <a:off x="4419360" y="3504960"/>
            <a:ext cx="4454280" cy="2560680"/>
          </a:xfrm>
          <a:prstGeom prst="cloudCallout">
            <a:avLst>
              <a:gd name="adj1" fmla="val -10027"/>
              <a:gd name="adj2" fmla="val 3365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In my own word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Reprieve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ays or cancellations of punish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895480"/>
            <a:ext cx="2590920" cy="1828800"/>
          </a:xfrm>
          <a:prstGeom prst="wedgeEllipseCallout">
            <a:avLst>
              <a:gd name="adj1" fmla="val 44791"/>
              <a:gd name="adj2" fmla="val 1072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Key words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lay- you go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3124080"/>
            <a:ext cx="3124080" cy="2362320"/>
          </a:xfrm>
          <a:prstGeom prst="cloudCallout">
            <a:avLst>
              <a:gd name="adj1" fmla="val -43750"/>
              <a:gd name="adj2" fmla="val 545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In my own word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: when a punishment is delayed or given a different or later time than it was supposed to be or if it is cancelled, you don’t get the punishment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9880" y="5562720"/>
            <a:ext cx="1371600" cy="1031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105520" y="3124080"/>
            <a:ext cx="3124080" cy="2362320"/>
          </a:xfrm>
          <a:prstGeom prst="cloudCallout">
            <a:avLst>
              <a:gd name="adj1" fmla="val -43750"/>
              <a:gd name="adj2" fmla="val 545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In my own words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: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6:39:56Z</dcterms:created>
  <dc:creator>kmst1029</dc:creator>
  <dc:description/>
  <dc:language>en-US</dc:language>
  <cp:lastModifiedBy>workstation</cp:lastModifiedBy>
  <dcterms:modified xsi:type="dcterms:W3CDTF">2011-03-10T16:26:02Z</dcterms:modified>
  <cp:revision>13</cp:revision>
  <dc:subject/>
  <dc:title>Three-Fifths Compromise </dc:title>
</cp:coreProperties>
</file>